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5.jpeg" ContentType="image/jpeg"/>
  <Override PartName="/ppt/media/image6.png" ContentType="image/png"/>
  <Override PartName="/ppt/media/image7.png" ContentType="image/png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5D31-2366-4334-8BB4-51E4262C2C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2EBF-3948-4BCA-8FE6-C2FE2649B5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ОУ СОШ №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ОУ СОШ №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4613-656B-4B11-B291-325BE7B841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4368-0BD5-492B-AFD6-5E9E75A6E7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ОУ СОШ №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ОУ СОШ №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3A6B-113C-4AC9-B0D4-E468D6FE1C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0FA9-417C-4C5B-88B6-244088A40E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468D-EA05-40B1-B439-14A7CC16B1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8D44-F4DA-4EC1-AD6C-11943279D5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C8D9-5945-40AB-8252-4020C74AEF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AB34-68DD-4CA0-999A-D9E368E989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B2B3-33D4-49C0-B639-CB4785D4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78C4-AA27-4C82-A5C3-DEC41F82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D913-F046-42D4-BD2E-CBF61986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1CCA-3DA8-48E8-8FCB-04C533B6C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0349-4DA1-4855-A4F8-23F4EA2F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39A1-CD50-44DB-AE39-08FBE3C4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0A6B-7F84-4F6A-9C90-73D8FBE9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943B-C969-4EE9-81AB-562D9362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DC04-C5E6-4911-83C1-13E50ABA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F0D0-406E-4F00-A870-F05158A6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1390-A4F2-422C-92B1-55B8FA00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E7FA-94A3-46B3-8678-87C55155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91BE-61EA-498A-ACD6-9FF6C12C8A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титул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001_r18_c1"/>
          <p:cNvPicPr/>
          <p:nvPr/>
        </p:nvPicPr>
        <p:blipFill>
          <a:blip r:embed="rId2"/>
          <a:stretch/>
        </p:blipFill>
        <p:spPr>
          <a:xfrm>
            <a:off x="3851280" y="0"/>
            <a:ext cx="5292720" cy="148428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  <p:pic>
        <p:nvPicPr>
          <p:cNvPr id="50" name="Picture 9" descr="штурвал"/>
          <p:cNvPicPr/>
          <p:nvPr/>
        </p:nvPicPr>
        <p:blipFill>
          <a:blip r:embed="rId3"/>
          <a:stretch/>
        </p:blipFill>
        <p:spPr>
          <a:xfrm>
            <a:off x="3780000" y="1413000"/>
            <a:ext cx="2879640" cy="273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bell"/>
          <p:cNvPicPr/>
          <p:nvPr/>
        </p:nvPicPr>
        <p:blipFill>
          <a:blip r:embed="rId4"/>
          <a:stretch/>
        </p:blipFill>
        <p:spPr>
          <a:xfrm>
            <a:off x="755640" y="189000"/>
            <a:ext cx="792000" cy="7268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3929040" y="43092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51280" y="-360"/>
            <a:ext cx="529272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d9"/>
                </a:solidFill>
                <a:latin typeface="Arial"/>
              </a:rPr>
              <a:t>Муниципальное общеобразовательное учреждение «Средняя общеобразовательная школа № 21  села Архиповского Будённовского района» Ставрополь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1371600" y="3933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Работа учителя русского языка и литературы</a:t>
            </a:r>
            <a:br>
              <a:rPr sz="2800"/>
            </a:b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Харлановой Натальи Георгиевны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90160" y="5877000"/>
            <a:ext cx="1130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6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9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6" descr="001_r18_c1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8" descr="96"/>
          <p:cNvPicPr/>
          <p:nvPr/>
        </p:nvPicPr>
        <p:blipFill>
          <a:blip r:embed="rId2"/>
          <a:stretch/>
        </p:blipFill>
        <p:spPr>
          <a:xfrm>
            <a:off x="8028000" y="5049720"/>
            <a:ext cx="1116000" cy="1111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916360" y="4322880"/>
            <a:ext cx="2757240" cy="2535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C2.2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Напишите сочинение-рассуждение. Объясните, как вы понимаете смыс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финала текста (предложение 39) :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«Мне теперь всё нипочё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Приведите в сочинении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два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аргумента из прочитанного текс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подтверждающие ваши рассу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Приводя примеры, указывайте номера нужных предложений 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применяйте цитир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Объём сочинения должен составлять не менее 50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Сочинение пишите аккуратно, разборчивым почер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В. П Астафьев обращается в тексте к воспоминаниям о своей юности, о войне. Он пишет о том далёком времени, когда был молод: «Мысленно успеваю пройтись по   всей своей девятнадцатилетней жизни, такой ещё небольшой, такой нескладной и всё-таки моей, дорогой мне жизни». Мы узнаем, что рассказчику пришлось в жизни многое пережить, он сирота, вырос в детдоме: «Очень мне жаль, что ни с улыбкой, ни без улыбки не провожала меня мать. Никто не провожал. Я сам уехал в армию, добровольно, один». Ему тоскливо и одиноко: «Вот выйду из госпиталя инвалидом, ни к труду, ни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жизни не приспособленным. Умереть бы мне здесь…»  Но он поёт о матери среди раненых, таких же искалеченных люд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Если мать провожала с улыбк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То с улыбкой вернёшься назад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          </a:t>
            </a: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«Горе людское собралось сюда и слушает мою песню», - горько звучат эти слова.    Но песня о матери рождает в искалеченных войной людях надежу на лучшее, на то, что их жду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          </a:t>
            </a: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И хотя рассказчика по-прежнему никто не встретит после войны, его душа тоже оживает под воздействием веры этих людей, под волшебным влиянием музыки, песни: «Мне теперь всё нипочё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         </a:t>
            </a: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Что стоит за этими словами, о чём заставляет нас задуматься автор. Мне кажется, он призывает нас не поддаваться обстоятельствам, какими бы трудными они ни были, жить среди людей, верить им, верить  в будущее. А ещё слушать музыку, песни, несущие нам эту веру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064360" y="5865840"/>
            <a:ext cx="1079640" cy="992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титул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001_r18_c1"/>
          <p:cNvPicPr/>
          <p:nvPr/>
        </p:nvPicPr>
        <p:blipFill>
          <a:blip r:embed="rId2"/>
          <a:stretch/>
        </p:blipFill>
        <p:spPr>
          <a:xfrm>
            <a:off x="3851280" y="0"/>
            <a:ext cx="5292720" cy="1484280"/>
          </a:xfrm>
          <a:prstGeom prst="rect">
            <a:avLst/>
          </a:prstGeom>
          <a:ln w="9360">
            <a:solidFill>
              <a:srgbClr val="fffff7"/>
            </a:solidFill>
            <a:miter/>
          </a:ln>
        </p:spPr>
      </p:pic>
      <p:pic>
        <p:nvPicPr>
          <p:cNvPr id="92" name="Picture 9" descr="штурвал"/>
          <p:cNvPicPr/>
          <p:nvPr/>
        </p:nvPicPr>
        <p:blipFill>
          <a:blip r:embed="rId3"/>
          <a:stretch/>
        </p:blipFill>
        <p:spPr>
          <a:xfrm>
            <a:off x="3635280" y="4121280"/>
            <a:ext cx="2880000" cy="27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bell"/>
          <p:cNvPicPr/>
          <p:nvPr/>
        </p:nvPicPr>
        <p:blipFill>
          <a:blip r:embed="rId4"/>
          <a:stretch/>
        </p:blipFill>
        <p:spPr>
          <a:xfrm>
            <a:off x="755640" y="189000"/>
            <a:ext cx="792000" cy="7268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3929040" y="43092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331640" y="3068280"/>
            <a:ext cx="745308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3300"/>
                </a:solidFill>
                <a:latin typeface="Arial"/>
              </a:rPr>
              <a:t>Успехов  на ГИА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71600" y="3933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15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8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001_r18_c1"/>
          <p:cNvPicPr/>
          <p:nvPr/>
        </p:nvPicPr>
        <p:blipFill>
          <a:blip r:embed="rId1"/>
          <a:stretch/>
        </p:blipFill>
        <p:spPr>
          <a:xfrm>
            <a:off x="8317080" y="0"/>
            <a:ext cx="82692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Люди"/>
          <p:cNvPicPr/>
          <p:nvPr/>
        </p:nvPicPr>
        <p:blipFill>
          <a:blip r:embed="rId2"/>
          <a:stretch/>
        </p:blipFill>
        <p:spPr>
          <a:xfrm>
            <a:off x="6443640" y="2924280"/>
            <a:ext cx="1919160" cy="3933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3300"/>
                </a:solidFill>
                <a:latin typeface="Arial"/>
              </a:rPr>
              <a:t>Сочинение-рассуждение по прочитанному текст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2708280"/>
            <a:ext cx="74088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Универсальная «шпора»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6" descr="001_r18_c1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96"/>
          <p:cNvPicPr/>
          <p:nvPr/>
        </p:nvPicPr>
        <p:blipFill>
          <a:blip r:embed="rId2"/>
          <a:stretch/>
        </p:blipFill>
        <p:spPr>
          <a:xfrm>
            <a:off x="8028000" y="5049720"/>
            <a:ext cx="1116000" cy="11113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Если очень тяжко придётся тебе на ГИ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с работой над сочинением на лингвистическую тему (ну, не идёт оно, не помнишь материала), ЧТО Ж, ДЕЛАТЬ НЕЧЕГО, будем писать сочинение-рассуждение по исходному тексту, ХОТЯ ЭТО ОХ КАК НЕЛЕГКО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700360" y="3276720"/>
            <a:ext cx="3809880" cy="358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rot="19279800">
            <a:off x="3348000" y="5157360"/>
            <a:ext cx="1548000" cy="935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чинение-рассу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6" descr="001_r18_c1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" descr="96"/>
          <p:cNvPicPr/>
          <p:nvPr/>
        </p:nvPicPr>
        <p:blipFill>
          <a:blip r:embed="rId2"/>
          <a:stretch/>
        </p:blipFill>
        <p:spPr>
          <a:xfrm>
            <a:off x="8028000" y="5049720"/>
            <a:ext cx="1116000" cy="11113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993300"/>
                </a:solidFill>
                <a:latin typeface="Arial"/>
              </a:rPr>
              <a:t>Для чего писатель, журналист, просто любой человек пишет свои произведения? Вероятно, он хочет поделиться с нами своими мыслями и чувствами, его волнуют какие-то проблемы, и он призывает нас поразмышлять вместе с ним над волнующими его вопрос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Arial"/>
              </a:rPr>
              <a:t>        </a:t>
            </a:r>
            <a:r>
              <a:rPr b="1" i="1" lang="ru-RU" sz="2000" spc="-1" strike="noStrike">
                <a:solidFill>
                  <a:srgbClr val="993300"/>
                </a:solidFill>
                <a:latin typeface="Arial"/>
              </a:rPr>
              <a:t>Попробуем разобраться, что волновало </a:t>
            </a:r>
            <a:r>
              <a:rPr b="1" i="1" lang="en-US" sz="2000" spc="-1" strike="noStrike">
                <a:solidFill>
                  <a:srgbClr val="993300"/>
                </a:solidFill>
                <a:latin typeface="Arial"/>
              </a:rPr>
              <a:t>NN</a:t>
            </a:r>
            <a:r>
              <a:rPr b="1" i="1" lang="ru-RU" sz="2000" spc="-1" strike="noStrike">
                <a:solidFill>
                  <a:srgbClr val="993300"/>
                </a:solidFill>
                <a:latin typeface="Arial"/>
              </a:rPr>
              <a:t> (назови автора). Он пишет: «(Можешь привести цитату, над которой тебе предстоит работать –  она в задании)».</a:t>
            </a:r>
            <a:r>
              <a:rPr b="1" i="1" lang="en-US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3300"/>
                </a:solidFill>
                <a:latin typeface="Arial"/>
              </a:rPr>
              <a:t>Что стоит за этими словами?  Я думаю, автор призывает нас задуматься над проблемой (обозначь проблем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Arial"/>
              </a:rPr>
              <a:t>        </a:t>
            </a:r>
            <a:r>
              <a:rPr b="1" i="1" lang="ru-RU" sz="2000" spc="-1" strike="noStrike">
                <a:solidFill>
                  <a:srgbClr val="993300"/>
                </a:solidFill>
                <a:latin typeface="Arial"/>
              </a:rPr>
              <a:t>Чтобы мы лучше поняли, что думает сам автор по поводу поднятых им вопросов, </a:t>
            </a:r>
            <a:r>
              <a:rPr b="1" i="1" lang="en-US" sz="2000" spc="-1" strike="noStrike">
                <a:solidFill>
                  <a:srgbClr val="993300"/>
                </a:solidFill>
                <a:latin typeface="Arial"/>
              </a:rPr>
              <a:t>NN</a:t>
            </a:r>
            <a:r>
              <a:rPr b="1" i="1" lang="ru-RU" sz="2000" spc="-1" strike="noStrike">
                <a:solidFill>
                  <a:srgbClr val="993300"/>
                </a:solidFill>
                <a:latin typeface="Arial"/>
              </a:rPr>
              <a:t> обращается к ……….. (воспоминаниям о своём детстве, к рассказу о ….. и т. д.). Я думаю, лучше всего его точка зрения выражена в предложении №…. : «_________________». Размышляя о ______________, он говорит: «____________________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3300"/>
                </a:solidFill>
                <a:latin typeface="Arial"/>
              </a:rPr>
              <a:t>         </a:t>
            </a:r>
            <a:r>
              <a:rPr b="1" i="1" lang="en-US" sz="2000" spc="-1" strike="noStrike">
                <a:solidFill>
                  <a:srgbClr val="993300"/>
                </a:solidFill>
                <a:latin typeface="Arial"/>
              </a:rPr>
              <a:t>NN</a:t>
            </a:r>
            <a:r>
              <a:rPr b="1" i="1" lang="ru-RU" sz="2000" spc="-1" strike="noStrike">
                <a:solidFill>
                  <a:srgbClr val="993300"/>
                </a:solidFill>
                <a:latin typeface="Arial"/>
              </a:rPr>
              <a:t>  о многом заставил меня задуматься. Я понял (а), что ________________________. (Сделай вывод из написанного тобой)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Попробуем помочь тебе: пробуй писать по шабло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6" descr="001_r18_c1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96"/>
          <p:cNvPicPr/>
          <p:nvPr/>
        </p:nvPicPr>
        <p:blipFill>
          <a:blip r:embed="rId2"/>
          <a:stretch/>
        </p:blipFill>
        <p:spPr>
          <a:xfrm>
            <a:off x="8028000" y="5049720"/>
            <a:ext cx="1116000" cy="1111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Arial"/>
              </a:rPr>
              <a:t>А можно т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993300"/>
                </a:solidFill>
                <a:latin typeface="Arial"/>
              </a:rPr>
              <a:t>NN</a:t>
            </a:r>
            <a:r>
              <a:rPr b="1" i="1" lang="ru-RU" sz="2000" spc="-1" strike="noStrike">
                <a:solidFill>
                  <a:srgbClr val="993300"/>
                </a:solidFill>
                <a:latin typeface="Arial"/>
              </a:rPr>
              <a:t> обращается в тексте к (воспоминаниям о детстве, о войне, о ком-то, словом, назови эпизод, событие, размышления, о которых идёт речь). Он пишет: «____________». (используй цитату из задания). Что стоит за этими словами, о чём заставляет нас задуматься авто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Arial"/>
              </a:rPr>
              <a:t>        </a:t>
            </a:r>
            <a:r>
              <a:rPr b="1" i="1" lang="ru-RU" sz="2000" spc="-1" strike="noStrike">
                <a:solidFill>
                  <a:srgbClr val="993300"/>
                </a:solidFill>
                <a:latin typeface="Arial"/>
              </a:rPr>
              <a:t>Мне кажется, главная мысль </a:t>
            </a:r>
            <a:r>
              <a:rPr b="1" i="1" lang="en-US" sz="2000" spc="-1" strike="noStrike">
                <a:solidFill>
                  <a:srgbClr val="993300"/>
                </a:solidFill>
                <a:latin typeface="Arial"/>
              </a:rPr>
              <a:t>NN </a:t>
            </a:r>
            <a:r>
              <a:rPr b="1" i="1" lang="ru-RU" sz="2000" spc="-1" strike="noStrike">
                <a:solidFill>
                  <a:srgbClr val="993300"/>
                </a:solidFill>
                <a:latin typeface="Arial"/>
              </a:rPr>
              <a:t>сформулирована вот в этой части текста: «_________». (Цитируй). Далее он пишет,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Arial"/>
              </a:rPr>
              <a:t>___________. (С помощью косвенной речи подтверди свою мысль, можешь указать № предложе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993300"/>
                </a:solidFill>
                <a:latin typeface="Arial"/>
              </a:rPr>
              <a:t>Автор приводит нас к выводу: ____________. Я не могу не согласиться с ним, ведь __________________. (Сделай свой вывод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опробуем?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)Существуют неписаные и писаные правила поведения людей, хорошего тона. (2)Соблюдение или несоблюдение этих правил характеризует воспитанность и культуру 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3)Придерживаясь их, человек ведёт себя соответствующим образом на работе, в школе, театре, на улице и дома. (4)Но с теми же людьми происходит странная вещь, когда они попадают в лес, на природу. (5)Почему-то считается, что здесь не нужны никакие прави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6)Лес — очень ранимое существо, и правила поведения в нём должны быть строги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7)3адумывался ли ты когда-нибудь, что такое бумажка, небрежно брошенная в лесу? (8)Она должна пролежать там минимум три года, прежде чем распадется на составные компоненты, которые природа сможет «переварить» и усвоить без вреда для себя. (9)Металлическая консервная банка должна пролежать 15—20 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10)А ведь сколько людей не задумываются об этом, оставляя после себя в лесу кучи хлама (11)Мусор накапливается из года в год, образуя «культурный» слой. (12)Под этим слоем начинает меняться жизнь организмов, населяющих почву, а значит, и естественные процессы, происходящие в ней. (13)Это приводит к изменению растительности, что, в свою очередь, уже сказывается на нас, люд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14)Происходят и другие, не менее печальные события. (15)Исследования показали: причиной лесных пожаров часто служит стеклянная посуда, брошенная отдыхающими. (16) В жаркое время года банки, бутылки, особенно если они побиты, превращаются в линзы, концентрирующие солнечные лучи и приводящие к самовозгоранию лесной подстилки. (17)Небрежность? (18)Халатность?  (19)Точнее, преступность поведения — и бушуют пожары на десятках и сотнях гектаров, уничтожая леса, отрывая людей от работы, заставляя расходовать огромные материальные средства для ликвидации пожаров и их последств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20)Порой слышишь рассказы, как змея или ещё кто-нибудь из лесных обитателей напал на человека (21)Большинство таких рассказов беспочвенны. (22)Любой бегающий или летающий обитатель леса, за исключением редких случаев, безропотно уступает человеку дорогу. (23)Лес — это дом для человека, даже больше, чем дом, и правила поведения в нём, уважение к его жителям должны быть не менее строгими, чем в собственном дом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М.Кан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6" descr="001_r18_c1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" descr="96"/>
          <p:cNvPicPr/>
          <p:nvPr/>
        </p:nvPicPr>
        <p:blipFill>
          <a:blip r:embed="rId2"/>
          <a:stretch/>
        </p:blipFill>
        <p:spPr>
          <a:xfrm>
            <a:off x="8028000" y="5049720"/>
            <a:ext cx="1116000" cy="11113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2.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пишите сочинение-рассуждение. Объясните, как вы понимаете смысл фразы текста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Лес—очень ранимое существо, и правила поведения в нём должны быть строгим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иведит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очинении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д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аргумента из прочитанного текста, подтверждающие ваши рассуждения. Приводя примеры, указывайте номера нужных предложений или применяйте цитирование (избегайте чрезмерного цитирова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ём сочинения должен составлять не менее 50 слов. Сочинение пишите аккуратно, разборчивым почер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771640" y="3645000"/>
            <a:ext cx="2757600" cy="2535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6" descr="001_r18_c1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96"/>
          <p:cNvPicPr/>
          <p:nvPr/>
        </p:nvPicPr>
        <p:blipFill>
          <a:blip r:embed="rId2"/>
          <a:stretch/>
        </p:blipFill>
        <p:spPr>
          <a:xfrm>
            <a:off x="8028000" y="5049720"/>
            <a:ext cx="1116000" cy="11113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0" y="5865840"/>
            <a:ext cx="1079640" cy="992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0"/>
            <a:ext cx="8388360" cy="56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Arial"/>
              </a:rPr>
              <a:t>      </a:t>
            </a:r>
            <a:r>
              <a:rPr b="1" i="1" lang="ru-RU" sz="1400" spc="-1" strike="noStrike">
                <a:solidFill>
                  <a:srgbClr val="993300"/>
                </a:solidFill>
                <a:latin typeface="Arial"/>
              </a:rPr>
              <a:t>Для чего писатель, журналист, просто любой человек пишет свои произведения? Вероятно, он хочет поделиться с нами своими мыслями и чувствами, его волнуют какие-то проблемы, и он призывает нас поразмышлять вместе с ним над волнующими его вопрос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3300"/>
                </a:solidFill>
                <a:latin typeface="Arial"/>
              </a:rPr>
              <a:t>        </a:t>
            </a:r>
            <a:r>
              <a:rPr b="1" i="1" lang="ru-RU" sz="1400" spc="-1" strike="noStrike">
                <a:solidFill>
                  <a:srgbClr val="993300"/>
                </a:solidFill>
                <a:latin typeface="Arial"/>
              </a:rPr>
              <a:t>Попробуем разобраться, что волновало М. Канна, рассказывающего нам, как мы ведём себя в лес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3300"/>
                </a:solidFill>
                <a:latin typeface="Arial"/>
              </a:rPr>
              <a:t>       </a:t>
            </a:r>
            <a:r>
              <a:rPr b="1" i="1" lang="ru-RU" sz="1400" spc="-1" strike="noStrike">
                <a:solidFill>
                  <a:srgbClr val="993300"/>
                </a:solidFill>
                <a:latin typeface="Arial"/>
              </a:rPr>
              <a:t>Он пишет: «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Лес — очень ранимое существо, и правила поведения в нём должны быть строгими</a:t>
            </a:r>
            <a:r>
              <a:rPr b="1" i="1" lang="ru-RU" sz="1400" spc="-1" strike="noStrike">
                <a:solidFill>
                  <a:srgbClr val="993300"/>
                </a:solidFill>
                <a:latin typeface="Arial"/>
              </a:rPr>
              <a:t>».</a:t>
            </a:r>
            <a:r>
              <a:rPr b="1" i="1" lang="en-US" sz="1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993300"/>
                </a:solidFill>
                <a:latin typeface="Arial"/>
              </a:rPr>
              <a:t>Что стоит за этими словами?  Я думаю, автор призывает нас задуматься над экологической проблемой, над вопросом, всё ли мы делаем для того, чтобы уберечь природу от варварского вмешательство человека в её развит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3300"/>
                </a:solidFill>
                <a:latin typeface="Arial"/>
              </a:rPr>
              <a:t>        </a:t>
            </a:r>
            <a:r>
              <a:rPr b="1" i="1" lang="ru-RU" sz="1400" spc="-1" strike="noStrike">
                <a:solidFill>
                  <a:srgbClr val="993300"/>
                </a:solidFill>
                <a:latin typeface="Arial"/>
              </a:rPr>
              <a:t>Чтобы мы лучше поняли, что думает сам автор по поводу поднятых им вопросов, М. Канн обращается к размышлением о нашем поведении в лесу. Я думаю, лучше всего его точка зрения выражена в предложении  №23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«Лес — это дом для человека, даже больше, чем дом, и правила поведения в нём, уважение к его жителям должны быть не менее строгими, чем в собственном доме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3300"/>
                </a:solidFill>
                <a:latin typeface="Arial"/>
              </a:rPr>
              <a:t>Размышляя о нашем отношении к лесу, он спрашивает: «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3адумывался ли ты когда-нибудь, что такое бумажка, небрежно брошенная в лесу?</a:t>
            </a:r>
            <a:r>
              <a:rPr b="1" i="1" lang="ru-RU" sz="1400" spc="-1" strike="noStrike">
                <a:solidFill>
                  <a:srgbClr val="993300"/>
                </a:solidFill>
                <a:latin typeface="Arial"/>
              </a:rPr>
              <a:t> ». Брошенная бумажка, консервная банка, бутылка наносят непоправимый вред  всему  живому. Автор рассказывает, как из-за нашей халатности возникают лесные пожары, они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«бушуют</a:t>
            </a:r>
            <a:r>
              <a:rPr b="1" i="1" lang="ru-RU" sz="1400" spc="-1" strike="noStrike">
                <a:solidFill>
                  <a:srgbClr val="993300"/>
                </a:solidFill>
                <a:latin typeface="Arial"/>
              </a:rPr>
              <a:t>,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ничтожая леса, отрывая людей от работы, заставляя расходовать огромные материальные средства для ликвидации пожаров и их последствий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3300"/>
                </a:solidFill>
                <a:latin typeface="Arial"/>
              </a:rPr>
              <a:t>         </a:t>
            </a:r>
            <a:r>
              <a:rPr b="1" i="1" lang="ru-RU" sz="1400" spc="-1" strike="noStrike">
                <a:solidFill>
                  <a:srgbClr val="993300"/>
                </a:solidFill>
                <a:latin typeface="Arial"/>
              </a:rPr>
              <a:t>М. Канн о многом заставил меня задуматься. Я понял (а), что надо бережно относиться к природе, задумываться над тем, как вести себя в лесу, в парке, на мор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3300"/>
                </a:solidFill>
                <a:latin typeface="Arial"/>
              </a:rPr>
              <a:t>Сохраним природу и для себя, и для будущих поколени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-396720" y="0"/>
            <a:ext cx="9540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993300"/>
                </a:solidFill>
                <a:latin typeface="Arial"/>
              </a:rPr>
              <a:t>Попробуем ещё?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Arial"/>
              </a:rPr>
              <a:t>                    </a:t>
            </a:r>
            <a:r>
              <a:rPr b="1" i="1" lang="ru-RU" sz="1200" spc="-1" strike="noStrike">
                <a:solidFill>
                  <a:srgbClr val="993300"/>
                </a:solidFill>
                <a:latin typeface="Arial"/>
              </a:rPr>
              <a:t>(1)Вот так шту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Arial"/>
              </a:rPr>
              <a:t>               </a:t>
            </a:r>
            <a:r>
              <a:rPr b="1" i="1" lang="ru-RU" sz="1200" spc="-1" strike="noStrike">
                <a:solidFill>
                  <a:srgbClr val="993300"/>
                </a:solidFill>
                <a:latin typeface="Arial"/>
              </a:rPr>
              <a:t>(2)Голос мой, оказывается, достиг ценителя и проповедника искусств – Ирочки, которая немедленно мобилизовала меня в самодеятельность, потому что я и раньше неплохо пел. (3)Я даже приз однажды получил на районной олимпиаде – коробку шоколадных конфет. (4)Я угощал конфетами ребят и девчонок наших, детдомовских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Arial"/>
              </a:rPr>
              <a:t>               </a:t>
            </a:r>
            <a:r>
              <a:rPr b="1" i="1" lang="ru-RU" sz="1200" spc="-1" strike="noStrike">
                <a:solidFill>
                  <a:srgbClr val="993300"/>
                </a:solidFill>
                <a:latin typeface="Arial"/>
              </a:rPr>
              <a:t>(5)И вот стою я в палате выздоравливающих (здесь в прежние времена был школьный спортзал) и под баян пою грустную-грустную песн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Arial"/>
              </a:rPr>
              <a:t>(6) Не надейся, рыбак, на погод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Arial"/>
              </a:rPr>
              <a:t>А надейся на парус туг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Arial"/>
              </a:rPr>
              <a:t>(7)Не надейся на тихую вод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Arial"/>
              </a:rPr>
              <a:t>Острый камень лежит под волной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Arial"/>
              </a:rPr>
              <a:t>               </a:t>
            </a:r>
            <a:r>
              <a:rPr b="1" i="1" lang="ru-RU" sz="1200" spc="-1" strike="noStrike">
                <a:solidFill>
                  <a:srgbClr val="993300"/>
                </a:solidFill>
                <a:latin typeface="Arial"/>
              </a:rPr>
              <a:t>(8)На баяне играет Рюрик. (9)Рюрик, по-моему, человек неистребимый. (10) Он весь в осколках. (11)Один осколок даже пробил ему щёку. (12)Рюрик кладёт пробитую щеку на баян и выводит так, будто не в палате находится, а где-то на реке или на озере в закатный час и печалится он вместе с угасающим днём, и я печалюсь вместе с н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Arial"/>
              </a:rPr>
              <a:t>                </a:t>
            </a:r>
            <a:r>
              <a:rPr b="1" i="1" lang="ru-RU" sz="1200" spc="-1" strike="noStrike">
                <a:solidFill>
                  <a:srgbClr val="993300"/>
                </a:solidFill>
                <a:latin typeface="Arial"/>
              </a:rPr>
              <a:t>(13)А баян ведёт меня, требует не отстав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Arial"/>
              </a:rPr>
              <a:t>(14)Сразу солнце заплещется рыбко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Arial"/>
              </a:rPr>
              <a:t>И лучи серебром заблестя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Arial"/>
              </a:rPr>
              <a:t>(15)Если мать провожала с улыбко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Arial"/>
              </a:rPr>
              <a:t>То с улыбкой вернёшься назад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Arial"/>
              </a:rPr>
              <a:t>           </a:t>
            </a:r>
            <a:r>
              <a:rPr b="1" i="1" lang="ru-RU" sz="1200" spc="-1" strike="noStrike">
                <a:solidFill>
                  <a:srgbClr val="993300"/>
                </a:solidFill>
                <a:latin typeface="Arial"/>
              </a:rPr>
              <a:t>( 16)Пока Рюрик пробегает проигрыш, я жду и мысленно успеваю пройтись по   всей своей девятнадцатилетней жизни, такой ещё небольшой, такой нескладной и всё-таки моей, дорогой мне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Arial"/>
              </a:rPr>
              <a:t>             </a:t>
            </a:r>
            <a:r>
              <a:rPr b="1" i="1" lang="ru-RU" sz="1200" spc="-1" strike="noStrike">
                <a:solidFill>
                  <a:srgbClr val="993300"/>
                </a:solidFill>
                <a:latin typeface="Arial"/>
              </a:rPr>
              <a:t>(17)Очень мне жаль, что ни с улыбкой, ни без улыбки не провожала меня мать. (18)Никто не провожал. (19)Я сам уехал в армию, добровольно, один. (20) И встречать никто не будет. (21)Вот выйду из госпиталя инвалидом, ни к труду, ни к жизни не приспособленным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Arial"/>
              </a:rPr>
              <a:t>              </a:t>
            </a:r>
            <a:r>
              <a:rPr b="1" i="1" lang="ru-RU" sz="1200" spc="-1" strike="noStrike">
                <a:solidFill>
                  <a:srgbClr val="993300"/>
                </a:solidFill>
                <a:latin typeface="Arial"/>
              </a:rPr>
              <a:t>(22)Умереть бы мне здесь. (23)Вот тогда бы, может, и пожалели обо мне все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Arial"/>
              </a:rPr>
              <a:t>              </a:t>
            </a:r>
            <a:r>
              <a:rPr b="1" i="1" lang="ru-RU" sz="1200" spc="-1" strike="noStrike">
                <a:solidFill>
                  <a:srgbClr val="993300"/>
                </a:solidFill>
                <a:latin typeface="Arial"/>
              </a:rPr>
              <a:t>(24)Я окидываю взглядом палату: койки, койки, койки. (25)Весь спортзал набит ими. (26)На койках лежат и сидят раненые. (27)Молодые и старые, русские и нерусские, с прическами и без причесок, с костылями и без костылей, с руками и без рук, с ногами и без ног. (28)Горе людское собралось сюда и слушает мою песн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Arial"/>
              </a:rPr>
              <a:t>               </a:t>
            </a:r>
            <a:r>
              <a:rPr b="1" i="1" lang="ru-RU" sz="1200" spc="-1" strike="noStrike">
                <a:solidFill>
                  <a:srgbClr val="993300"/>
                </a:solidFill>
                <a:latin typeface="Arial"/>
              </a:rPr>
              <a:t>(29)Я уже давно и тушеваться перестал. (30)Я сам раненый, я почти убитый, и потому я знаю, чего от меня ждут. (31) И я обнадёживаю их, этих знакомых мне и незнакомых изувеченных люд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Arial"/>
              </a:rPr>
              <a:t>(32)Если мать провожала с улыбко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Arial"/>
              </a:rPr>
              <a:t>То с улыбкой вернёшься назад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Arial"/>
              </a:rPr>
              <a:t>                </a:t>
            </a:r>
            <a:r>
              <a:rPr b="1" i="1" lang="ru-RU" sz="1200" spc="-1" strike="noStrike">
                <a:solidFill>
                  <a:srgbClr val="993300"/>
                </a:solidFill>
                <a:latin typeface="Arial"/>
              </a:rPr>
              <a:t>(33)Я не пою, я почти говорю им это твердым голосом, из которого исчезла моя, такая ещё жиденькая печаль, печаль хотя и много уже повидавшего, но всё же девятнадцатилетнего человека. (34)И я вижу, что мне поверили. (35) Однорукие стучат о колени, лежащие колотят костылями об пол: аплодисмен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Arial"/>
              </a:rPr>
              <a:t>                 </a:t>
            </a:r>
            <a:r>
              <a:rPr b="1" i="1" lang="ru-RU" sz="1200" spc="-1" strike="noStrike">
                <a:solidFill>
                  <a:srgbClr val="993300"/>
                </a:solidFill>
                <a:latin typeface="Arial"/>
              </a:rPr>
              <a:t>(36)«Поклонись, поклонись, Мишка! (37)Полагается!» – слышу шепот Рюр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Arial"/>
              </a:rPr>
              <a:t>                 </a:t>
            </a:r>
            <a:r>
              <a:rPr b="1" i="1" lang="ru-RU" sz="1200" spc="-1" strike="noStrike">
                <a:solidFill>
                  <a:srgbClr val="993300"/>
                </a:solidFill>
                <a:latin typeface="Arial"/>
              </a:rPr>
              <a:t>(38)Я выскочил из пал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Arial"/>
              </a:rPr>
              <a:t>                </a:t>
            </a:r>
            <a:r>
              <a:rPr b="1" i="1" lang="ru-RU" sz="1200" spc="-1" strike="noStrike">
                <a:solidFill>
                  <a:srgbClr val="993300"/>
                </a:solidFill>
                <a:latin typeface="Arial"/>
              </a:rPr>
              <a:t>(39)Мне теперь всё нипочё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Arial"/>
              </a:rPr>
              <a:t>(По В.Астафьев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2:25:21Z</dcterms:created>
  <dc:creator>Super</dc:creator>
  <dc:description/>
  <dc:language>en-US</dc:language>
  <cp:lastModifiedBy>Admin</cp:lastModifiedBy>
  <dcterms:modified xsi:type="dcterms:W3CDTF">2010-06-27T06:40:09Z</dcterms:modified>
  <cp:revision>13</cp:revision>
  <dc:subject/>
  <dc:title>Слайд 1</dc:title>
</cp:coreProperties>
</file>