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gif" ContentType="image/gif"/>
  <Override PartName="/ppt/media/image8.wmf" ContentType="image/x-wmf"/>
  <Override PartName="/ppt/media/image9.wmf" ContentType="image/x-wmf"/>
  <Override PartName="/ppt/media/image11.jpeg" ContentType="image/jpeg"/>
  <Override PartName="/ppt/media/image1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55BC-2F8A-4926-905F-50F838E46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D727-08C6-4D72-8CAE-9340D3A4C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A681-F237-4457-A4B4-217C0FC3E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E082-AF8E-4BE2-98C7-C07E5D6AF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EF5D-B63A-4726-BEDA-F2FD214D2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CB6F-FD41-4A43-B7CA-0D63E3397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B142-0B58-496A-9378-6D0F21883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320F-CD09-49D9-AED6-4DD365A78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7F43-E122-4E93-8833-B8064A96F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B69C-4C54-4930-9AF4-A183BECED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70B7-54E5-44AE-8194-74D0CB4EB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4ACF-E91D-47EA-ADA0-8F41A60B6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6240A-8029-4BE1-855F-F8E56C6060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ПРЕЗЕНТАЦИЯ ПО ТЕМЕ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«Как писать сочинение формата С2.2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Подготовка к ГИА-9 по русскому язы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Автор – учитель ГОУ СОШ № 648  Королёва Наталья Юрье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г. Моск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657600" y="457200"/>
            <a:ext cx="19051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ак начать вступлени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 Вступление может начинаться с риторических восклицаний и вопросов, публицистических обращений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Как часто мы слышим отголоски вой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Можно ли забыть страшные 1941-1945-е годы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Кто не читал книги о войне?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 или с указания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тем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размышле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Тема войны – страшная тема. Говорить о войне –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больно и горько. Но нужно. Вот и писатель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ли с высказывания другого автор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«Ах, война, что ты сделала, подлая?»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7010280" y="5105520"/>
            <a:ext cx="213372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 ПРАЗДНИКОМ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1752480" y="1295280"/>
            <a:ext cx="563904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ГОТОВИМСЯ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 ЭКЗАМЕНУ ПО РУССКОМУ ЯЗЫК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формате ГИ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629400" y="4343400"/>
            <a:ext cx="180648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 ЧА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ОЧИНЕНИЕ-РАССУЖД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ОСОБЕН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i="1" lang="en-US" sz="2800" spc="-1" strike="noStrike" u="sng">
                <a:solidFill>
                  <a:srgbClr val="990000"/>
                </a:solidFill>
                <a:uFillTx/>
                <a:latin typeface="Arial"/>
              </a:rPr>
              <a:t>1. Строгая композиция.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Вступл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Тези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Аргументы и 2 примера из исходного текс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Заключение-выво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62120" y="685800"/>
            <a:ext cx="909360" cy="8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собенност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990000"/>
                </a:solidFill>
                <a:uFillTx/>
                <a:latin typeface="Arial"/>
              </a:rPr>
              <a:t>2. Наличие связующих компонент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водные констру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,по моему мнению,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, по-моему,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,мне кажется,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,во-первых,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,значит,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,таким образом,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57200" y="4038480"/>
            <a:ext cx="2355840" cy="21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очинение типа С2.2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ЛГОРИТМ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читайте текс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делите в нём указанный в задании С2.2 фрагмент. Вдумайтесь в него: необходимо понять смысл всех входящих в отрывок слов и авторский замысе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формулировать собственное мнение о смысле фрагмента и записать в виде тези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6781680" y="5181480"/>
            <a:ext cx="2198880" cy="15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АЛГОРИТМ РАБО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Найдите 2 примера в тексте, подтверждающих правильность понимания фрагмента тек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. Сформулируйте 2 аргумента (доказательства), подтверждающие правильность понимания смысла фрагмента, и запишите и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. Исходя из основной мысли сочинения, сочините заключени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вступл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7772400" y="1219320"/>
            <a:ext cx="84780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НЯ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ЕЗИ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МЕ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РГУМЕН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В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СТУПЛ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62120" y="2438280"/>
            <a:ext cx="177300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АБОТА С ТЕКСТО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ФОРМУЛИРУЙ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ЕЗИ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пределите тем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очините вступл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ЙДИТЕ ПРЕДЛОЖЕНИЯ-ДОКАЗАТЕЛЬ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ФОРМУЛИРУЙТЕ СВОИ АРГУМЕН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ПИШИТЕ ВЫВ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523880" y="2743200"/>
            <a:ext cx="1798920" cy="14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СТУПЛ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сновывается на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тем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иде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всего сочин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держит собственные размышления по данному предмету рассужд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3581280" y="4952880"/>
            <a:ext cx="1776600" cy="16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mateur counterfeits</cp:lastModifiedBy>
  <dcterms:modified xsi:type="dcterms:W3CDTF">2011-03-05T14:39:59Z</dcterms:modified>
  <cp:revision>5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